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562CA9-9D42-4A04-AEF7-4156EEE82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12EF5BAD-FAC8-4CCD-AAB4-D82FBAF24DC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45606C61-7E49-4CE2-8F35-37A458A3498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6C0670CC-495A-4136-B7A9-1F34B2D9625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34B75A53-A6D1-4EDD-9923-0B20ED49DAB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BEC91843-B75D-4D3B-8F54-11EFA8B501E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022FDCBE-CE1D-4B55-9213-090780144E6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84550676-94EB-440C-885E-80063C3E6FD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2179A5A4-0A1A-470D-98AE-6DD3BBAEF5B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F39F8596-8EB3-471E-BC98-8CCCEC4BCE5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2234D942-D218-43DE-86E3-119FEBFB0F2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5243BEF6-1F5D-4B34-872F-12858D5E90C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C3DA9272-D71C-4AFA-8176-79CB8221BC4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33A-2A3A-4F12-95FA-536FC833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BAA-6078-4502-A44D-1D47ADBE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467-A5B5-455E-9AD1-5D5CE8F4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A86-3774-48C4-9ED5-9E2EFA62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D69-3A31-4780-8751-7191CCBE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3E4-690E-417C-BECC-F2A65128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138-B382-4720-9D3E-C9A19941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3A7-9E1A-4107-95A9-D3B9CC5A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783-BAD2-48AB-AC8C-1C6AC064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48D-4D2F-4580-8DCA-131E62B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D9D-1543-4994-A681-8339A01C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B95-D961-4BAF-B879-7CA42D3E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149D20-D186-4417-9A6A-A223A49DEC2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971640" y="2205000"/>
            <a:ext cx="7920720" cy="210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Тактика игрового взаимодействия взрослого с детьми при руководстве сюжетно-ролевой игрой»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68480" y="332640"/>
            <a:ext cx="885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Этапы формирования сюжетно-ролевой иг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95640" y="1124640"/>
            <a:ext cx="842472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1 этап (1,5- 3 лет)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педагог стимулирует ребенка к осуществлению условных действий с предм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2 этап (3-5 лет)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педагог формирует у детей умение принимать роль, переходить в игре от одной роли к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3 этап (5-7 лет)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дети должны овладеть умением придумывать разнообразные сюжеты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5" descr="http://www.proshkolu.ru/content/media/pic/std/2000000/1550000/1549415-82561396cfb61b77.png"/>
          <p:cNvPicPr/>
          <p:nvPr/>
        </p:nvPicPr>
        <p:blipFill>
          <a:blip r:embed="rId2"/>
          <a:stretch/>
        </p:blipFill>
        <p:spPr>
          <a:xfrm>
            <a:off x="7380360" y="4581000"/>
            <a:ext cx="1656000" cy="211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359640" y="1405800"/>
            <a:ext cx="8352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гра в форме детской самостоятельности в наибольшей степени влияет на психическое развитие детей. В этом заключается её педагогическая ценность. Для развития игры как самостоятельной детской деятельности начиная с первых этапов её развития важно формировать умение принимать от взрослого игровые задачи, затем ставить и самому решать их поэтапно, усложняющимися способами и сред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844080" y="548640"/>
            <a:ext cx="138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s6036"/>
          <p:cNvPicPr/>
          <p:nvPr/>
        </p:nvPicPr>
        <p:blipFill>
          <a:blip r:embed="rId2"/>
          <a:stretch/>
        </p:blipFill>
        <p:spPr>
          <a:xfrm>
            <a:off x="3564000" y="4653000"/>
            <a:ext cx="2448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27640" y="2057040"/>
            <a:ext cx="7992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3132000" y="3072600"/>
            <a:ext cx="25153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7640" y="1052640"/>
            <a:ext cx="856872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«Игры не столько стихия ребёнка, сколько единственная область, где мы представляем ему более или менее широкую инициативу. Лишь в играх ребёнок чувствует себя до некоторой степени независимым… На игру… у ребёнка есть пра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Я. Кор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2"/>
          <a:stretch/>
        </p:blipFill>
        <p:spPr>
          <a:xfrm>
            <a:off x="2555640" y="4437000"/>
            <a:ext cx="386568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323640" y="614160"/>
            <a:ext cx="864072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Игра для дошкольников – основной вид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Через игру ребёнок осваивает предметный мир, знакомится              с различными действиями, осваивает разнообразные ро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Во время игры приобретает знания об окружающем ми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Именно в игре происходит становление ребенка  как личности,  его психическое развитие, формирование учебной и трудов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PMingLiU"/>
              </a:rPr>
              <a:t>Игра для ребенка дошкольного возраста является основным средством познания мира, обучения и воспитания, поэтому качество детской игры имеет прямое отношение к дальнейшему развитию ребенка. Игра для ребёнка – это не только удовольствие и радость. Это мир, в котором он живёт, через который постигает жизнь. В игре происходят важнейшие изменения психики и личности  детей, осуществляется подготовка к новой более сложной деятельности - учению, формируются произвольные формы общения детей с окружающими людь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827640" y="0"/>
            <a:ext cx="7341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Значение игры для развития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4"/>
          <p:cNvSpPr/>
          <p:nvPr/>
        </p:nvSpPr>
        <p:spPr>
          <a:xfrm>
            <a:off x="2758320" y="2166840"/>
            <a:ext cx="3522600" cy="1872720"/>
          </a:xfrm>
          <a:prstGeom prst="ellipse">
            <a:avLst/>
          </a:prstGeom>
          <a:solidFill>
            <a:srgbClr val="c1e2e5"/>
          </a:solidFill>
          <a:ln w="28575">
            <a:solidFill>
              <a:srgbClr val="4f81bd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уководство иг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1236960" y="47736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                  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азвертывать игровые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ействия на ви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 детей непринужде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6091200" y="359100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омогать ребе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сознать смыс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его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308880" y="356688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Новые игруш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быгрывать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 дет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5148000" y="47736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           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Комментировать смысл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воих действи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мысл действий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3184920" y="466920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спользовать сочета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еалистических игруш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 условными предме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7"/>
          <p:cNvSpPr/>
          <p:nvPr/>
        </p:nvSpPr>
        <p:spPr>
          <a:xfrm rot="2950800">
            <a:off x="2541960" y="34617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Стрелка вниз 18"/>
          <p:cNvSpPr/>
          <p:nvPr/>
        </p:nvSpPr>
        <p:spPr>
          <a:xfrm rot="8238000">
            <a:off x="2519280" y="17733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Стрелка вниз 19"/>
          <p:cNvSpPr/>
          <p:nvPr/>
        </p:nvSpPr>
        <p:spPr>
          <a:xfrm rot="12982200">
            <a:off x="5762160" y="170100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Стрелка вниз 20"/>
          <p:cNvSpPr/>
          <p:nvPr/>
        </p:nvSpPr>
        <p:spPr>
          <a:xfrm>
            <a:off x="4223160" y="387324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Стрелка вниз 21"/>
          <p:cNvSpPr/>
          <p:nvPr/>
        </p:nvSpPr>
        <p:spPr>
          <a:xfrm rot="18801600">
            <a:off x="5900760" y="34563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611640" y="188640"/>
            <a:ext cx="81478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Неправильная тактика при руководс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южетно-отобразительной иг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детей ранне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91640" y="1830240"/>
            <a:ext cx="68403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одить игры-инсценировки с куклами по типу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ть с игрушками или предметами-заместителями молча, без комментари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тавлять самостоятельные игровые действия детей без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овать только сюжетные реалистические игрушки или только предметы-замест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носить новые игрушки, не давая образцов их игрово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2" descr=""/>
          <p:cNvPicPr/>
          <p:nvPr/>
        </p:nvPicPr>
        <p:blipFill>
          <a:blip r:embed="rId2"/>
          <a:stretch/>
        </p:blipFill>
        <p:spPr>
          <a:xfrm>
            <a:off x="24120" y="3861000"/>
            <a:ext cx="19792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3078000" y="2419560"/>
            <a:ext cx="2955600" cy="1872720"/>
          </a:xfrm>
          <a:prstGeom prst="ellipse">
            <a:avLst/>
          </a:prstGeom>
          <a:solidFill>
            <a:srgbClr val="c1e2e5"/>
          </a:solidFill>
          <a:ln w="28575">
            <a:solidFill>
              <a:srgbClr val="4f81bd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уководство иг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детей 3-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460440" y="78228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бозначать верб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инимаемую 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 роль партн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6024600" y="784800"/>
            <a:ext cx="2790360" cy="157500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спольз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арные взаим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ополни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и постепе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величивая чис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6292800" y="2530080"/>
            <a:ext cx="2663280" cy="157608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етям предостав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озможность действ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амостоятель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о жел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3151080" y="248400"/>
            <a:ext cx="288000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ыделять специф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вых действи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вое взаимодействие чер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активное исполь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вого диал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12200" y="4382280"/>
            <a:ext cx="275508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едостав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озмож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вободно включ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 игру, ме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ь по ходу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17"/>
          <p:cNvSpPr/>
          <p:nvPr/>
        </p:nvSpPr>
        <p:spPr>
          <a:xfrm rot="2266800">
            <a:off x="2948760" y="38415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Стрелка вниз 18"/>
          <p:cNvSpPr/>
          <p:nvPr/>
        </p:nvSpPr>
        <p:spPr>
          <a:xfrm rot="8238000">
            <a:off x="2858040" y="197424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Стрелка вниз 19"/>
          <p:cNvSpPr/>
          <p:nvPr/>
        </p:nvSpPr>
        <p:spPr>
          <a:xfrm rot="13475400">
            <a:off x="5600520" y="196200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Стрелка вниз 20"/>
          <p:cNvSpPr/>
          <p:nvPr/>
        </p:nvSpPr>
        <p:spPr>
          <a:xfrm>
            <a:off x="4262760" y="41745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Стрелка вниз 21"/>
          <p:cNvSpPr/>
          <p:nvPr/>
        </p:nvSpPr>
        <p:spPr>
          <a:xfrm rot="19128000">
            <a:off x="5471640" y="381348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Oval 12"/>
          <p:cNvSpPr/>
          <p:nvPr/>
        </p:nvSpPr>
        <p:spPr>
          <a:xfrm>
            <a:off x="3213720" y="507816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бозначать верб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инимаемую 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 роль партн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436680" y="438300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спольз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аконич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вую атрибути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ля пере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к другой 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167400" y="2605320"/>
            <a:ext cx="265068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Активно использ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мотивы сказоч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ю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26"/>
          <p:cNvSpPr/>
          <p:nvPr/>
        </p:nvSpPr>
        <p:spPr>
          <a:xfrm rot="5400000">
            <a:off x="2488320" y="3139200"/>
            <a:ext cx="660240" cy="73800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Стрелка вниз 27"/>
          <p:cNvSpPr/>
          <p:nvPr/>
        </p:nvSpPr>
        <p:spPr>
          <a:xfrm rot="16200000">
            <a:off x="5843520" y="3147480"/>
            <a:ext cx="660240" cy="7228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Стрелка вниз 28"/>
          <p:cNvSpPr/>
          <p:nvPr/>
        </p:nvSpPr>
        <p:spPr>
          <a:xfrm rot="10800000">
            <a:off x="4210920" y="1650960"/>
            <a:ext cx="660240" cy="87912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064520" y="70200"/>
            <a:ext cx="7704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Неправильная тактика при руководс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южетно-ролевой игрой детей 3-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344160" y="1124640"/>
            <a:ext cx="8424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ключаться в игру с детьми, не обозначив своей роли и не выяснив какую роль взял на себя реб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щаться к партнерам во время игры по имени, не используя ролевого обращения (например, «Катя, полечи меня», а не «Доктор, полечи мен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ь точному воспроизведению профессиональных операций (например, взвешивать, делать уко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вязывать предварительной план игры и требовать соблюдения этого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протяжении всей игры требовать от детей соблюдения, взятой на себя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зовывать детей для игры по единому сюжету. Управлять и контролировать действия участников так, чтобы все оказались занят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овать подробную ролевую атрибутику (например, полные костюм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граничиваться в игре только семейной тематикой или профессиональными ро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4"/>
          <p:cNvSpPr/>
          <p:nvPr/>
        </p:nvSpPr>
        <p:spPr>
          <a:xfrm>
            <a:off x="3078000" y="2419560"/>
            <a:ext cx="2955600" cy="1872720"/>
          </a:xfrm>
          <a:prstGeom prst="ellipse">
            <a:avLst/>
          </a:prstGeom>
          <a:solidFill>
            <a:srgbClr val="c1e2e5"/>
          </a:solidFill>
          <a:ln w="28575">
            <a:solidFill>
              <a:srgbClr val="4f81bd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уководство иг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детей 5-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6089040" y="1239480"/>
            <a:ext cx="2790360" cy="157500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частвов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едваритель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ериоде самостоя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гры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2"/>
          <p:cNvSpPr/>
          <p:nvPr/>
        </p:nvSpPr>
        <p:spPr>
          <a:xfrm>
            <a:off x="5795280" y="3956400"/>
            <a:ext cx="2663280" cy="157608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едостав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озмож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амим распреде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и и игр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о сюже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3151080" y="248400"/>
            <a:ext cx="288000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спользовать нов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форму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ротекающую в чис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ечевом пла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3123720" y="4903920"/>
            <a:ext cx="2863800" cy="179424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Использовать мотив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сказочных сюжет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в игре-придумывани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подготовительно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периоде к самостоятель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7030a0"/>
                </a:solidFill>
                <a:latin typeface="Times New Roman"/>
              </a:rPr>
              <a:t>игр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19"/>
          <p:cNvSpPr/>
          <p:nvPr/>
        </p:nvSpPr>
        <p:spPr>
          <a:xfrm rot="13475400">
            <a:off x="5600520" y="196200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Стрелка вниз 20"/>
          <p:cNvSpPr/>
          <p:nvPr/>
        </p:nvSpPr>
        <p:spPr>
          <a:xfrm>
            <a:off x="4262760" y="417456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Стрелка вниз 21"/>
          <p:cNvSpPr/>
          <p:nvPr/>
        </p:nvSpPr>
        <p:spPr>
          <a:xfrm rot="18798000">
            <a:off x="5544720" y="368100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Oval 12"/>
          <p:cNvSpPr/>
          <p:nvPr/>
        </p:nvSpPr>
        <p:spPr>
          <a:xfrm>
            <a:off x="423000" y="3989520"/>
            <a:ext cx="2737440" cy="150984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авать образ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оединения сказоч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и фантастиче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221760" y="1177560"/>
            <a:ext cx="2737440" cy="1582560"/>
          </a:xfrm>
          <a:prstGeom prst="ellipse">
            <a:avLst/>
          </a:prstGeom>
          <a:solidFill>
            <a:srgbClr val="daedef"/>
          </a:solidFill>
          <a:ln w="28575">
            <a:solidFill>
              <a:srgbClr val="3c8c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Действовать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авноправный партне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нося норма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способы рас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ро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28"/>
          <p:cNvSpPr/>
          <p:nvPr/>
        </p:nvSpPr>
        <p:spPr>
          <a:xfrm rot="10800000">
            <a:off x="4210920" y="1650960"/>
            <a:ext cx="660240" cy="87912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Стрелка вниз 25"/>
          <p:cNvSpPr/>
          <p:nvPr/>
        </p:nvSpPr>
        <p:spPr>
          <a:xfrm rot="8238000">
            <a:off x="2858040" y="197424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Стрелка вниз 29"/>
          <p:cNvSpPr/>
          <p:nvPr/>
        </p:nvSpPr>
        <p:spPr>
          <a:xfrm rot="2767200">
            <a:off x="2739600" y="3599640"/>
            <a:ext cx="660240" cy="9694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64520" y="70200"/>
            <a:ext cx="7704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Неправильная тактика при руководс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южетно-ролевой игрой детей 5-7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44160" y="1196640"/>
            <a:ext cx="8424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овать предметно-игровые действия в рамках привычных сю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целивать детей на детализацию ролевых действий,            а не на творческое развитие сюж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ранее задавать сюжет игры с определённой последовательностью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ребовать доводить сюжет «до конца», выполняя одну роль принятую в начал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имулировать игру только по реалистическим сюжетам, подбирая для игры материалы и атрибуты, наводящие детей на воспроизведение профессиональных функций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мешиваться в отношения между сверстниками, назначать детей на главн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  <Words>818</Words>
  <Paragraphs>14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8:54:01Z</dcterms:created>
  <dc:creator>Людмила Архипова</dc:creator>
  <dc:description/>
  <dc:language>en-US</dc:language>
  <cp:lastModifiedBy>Александр</cp:lastModifiedBy>
  <dcterms:modified xsi:type="dcterms:W3CDTF">2017-12-13T15:35:09Z</dcterms:modified>
  <cp:revision>137</cp:revision>
  <dc:subject/>
  <dc:title>«Развитие творческих способностей при включении игры в изодеятельность  дошкольников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