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8381C6-5BA7-48D3-B96B-CD7C74271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BE0EB8DA-62C5-4AB4-A57E-D0A4F5F291D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8D22BB92-935F-4132-81AE-56B8469E5D5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D03C9AC7-35DB-4A76-B484-EDF50A2DEA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C61707BF-4A54-45C6-B33D-4DF066F1948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6F6ECE16-6E66-4A9D-85FD-77BB82BF8C1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79F443E2-1E00-4AC2-B499-95596628287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A6D05D82-8B44-4DBD-908B-9814AC62BBF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D9D8702D-6B5A-40E1-9BE1-78CD0DA5928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3C6EC828-4235-4D6E-A6D1-E0B6779A5E4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0183C8D2-7FDD-4C45-BB16-64DCA10B6C5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6B9932AD-AFBC-45C1-8AD8-E3A138088A1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A9A9242C-C2BF-4967-BE9A-A808D78C259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6B4-6F40-43CD-8993-5843A5F3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7B7-C45F-416A-AC60-E7285653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B15-021E-4C92-A74C-68FAB4D3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EB6-D4F0-43E8-AA97-5A9E4283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76B-A857-4AD1-9204-CFFFDC78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511-D6C3-43A4-A9E1-D1D763C6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7CC-6770-44C9-908B-DA5950A0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D75-F3B7-40C6-B574-F9FB6F0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70F-C11B-444F-B83B-9674800B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597-749A-4934-B138-15FD637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98D-A9AB-408E-9FF1-453295D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003-EDC6-4CFB-84F4-C1CD7B21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60789-B156-438C-8B04-8DBB9983B6F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971640" y="2205000"/>
            <a:ext cx="7920720" cy="210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Тактика игрового взаимодействия взрослого с детьми при руководстве сюжетно-ролевой игрой»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68480" y="332640"/>
            <a:ext cx="885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Этапы формирования сюжетно-ролевой иг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95640" y="1124640"/>
            <a:ext cx="842472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1 этап (1,5- 3 лет)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педагог стимулирует ребенка к осуществлению условных действий с предм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2 этап (3-5 лет)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педагог формирует у детей умение принимать роль, переходить в игре от одной роли к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3 этап (5-7 лет)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дети должны овладеть умением придумывать разнообразные сюжеты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5" descr="http://www.proshkolu.ru/content/media/pic/std/2000000/1550000/1549415-82561396cfb61b77.png"/>
          <p:cNvPicPr/>
          <p:nvPr/>
        </p:nvPicPr>
        <p:blipFill>
          <a:blip r:embed="rId2"/>
          <a:stretch/>
        </p:blipFill>
        <p:spPr>
          <a:xfrm>
            <a:off x="7380360" y="4581000"/>
            <a:ext cx="1656000" cy="211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359640" y="1405800"/>
            <a:ext cx="8352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гра в форме детской самостоятельности в наибольшей степени влияет на психическое развитие детей. В этом заключается её педагогическая ценность. Для развития игры как самостоятельной детской деятельности начиная с первых этапов её развития важно формировать умение принимать от взрослого игровые задачи, затем ставить и самому решать их поэтапно, усложняющимися способами и сред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844080" y="548640"/>
            <a:ext cx="138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s6036"/>
          <p:cNvPicPr/>
          <p:nvPr/>
        </p:nvPicPr>
        <p:blipFill>
          <a:blip r:embed="rId2"/>
          <a:stretch/>
        </p:blipFill>
        <p:spPr>
          <a:xfrm>
            <a:off x="3564000" y="4653000"/>
            <a:ext cx="2448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27640" y="2057040"/>
            <a:ext cx="7992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3132000" y="3072600"/>
            <a:ext cx="25153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7640" y="1052640"/>
            <a:ext cx="856872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«Игры не столько стихия ребёнка, сколько единственная область, где мы представляем ему более или менее широкую инициативу. Лишь в играх ребёнок чувствует себя до некоторой степени независимым… На игру… у ребёнка есть пра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Я. Кор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2"/>
          <a:stretch/>
        </p:blipFill>
        <p:spPr>
          <a:xfrm>
            <a:off x="2555640" y="4437000"/>
            <a:ext cx="386568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323640" y="614160"/>
            <a:ext cx="864072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Игра для дошкольников – основной вид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Через игру ребёнок осваивает предметный мир, знакомится              с различными действиями, осваивает разнообразные ро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Во время игры приобретает знания об окружающем ми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Именно в игре происходит становление ребенка  как личности,  его психическое развитие, формирование учебной и трудов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Игра для ребенка дошкольного возраста является основным средством познания мира, обучения и воспитания, поэтому качество детской игры имеет прямое отношение к дальнейшему развитию ребенка. Игра для ребёнка – это не только удовольствие и радость. Это мир, в котором он живёт, через который постигает жизнь. В игре происходят важнейшие изменения психики и личности  детей, осуществляется подготовка к новой более сложной деятельности - учению, формируются произвольные формы общения детей с окружающими людь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827640" y="0"/>
            <a:ext cx="7341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Значение игры для развития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4"/>
          <p:cNvSpPr/>
          <p:nvPr/>
        </p:nvSpPr>
        <p:spPr>
          <a:xfrm>
            <a:off x="2758320" y="2166840"/>
            <a:ext cx="3522600" cy="1872720"/>
          </a:xfrm>
          <a:prstGeom prst="ellipse">
            <a:avLst/>
          </a:prstGeom>
          <a:solidFill>
            <a:srgbClr val="c1e2e5"/>
          </a:solidFill>
          <a:ln w="28575">
            <a:solidFill>
              <a:srgbClr val="4f81bd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уководство иг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1236960" y="47736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                  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азвертывать игровые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ействия на ви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 детей непринужде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6091200" y="359100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омогать ребе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сознать смыс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его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308880" y="356688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Новые игруш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быгрывать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 дет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5148000" y="47736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           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Комментировать смысл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воих действи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мысл действий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3184920" y="466920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спользовать сочета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еалистических игруш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 условными предме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7"/>
          <p:cNvSpPr/>
          <p:nvPr/>
        </p:nvSpPr>
        <p:spPr>
          <a:xfrm rot="2950800">
            <a:off x="2541960" y="34617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Стрелка вниз 18"/>
          <p:cNvSpPr/>
          <p:nvPr/>
        </p:nvSpPr>
        <p:spPr>
          <a:xfrm rot="8238000">
            <a:off x="2519280" y="17733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Стрелка вниз 19"/>
          <p:cNvSpPr/>
          <p:nvPr/>
        </p:nvSpPr>
        <p:spPr>
          <a:xfrm rot="12982200">
            <a:off x="5762160" y="170100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Стрелка вниз 20"/>
          <p:cNvSpPr/>
          <p:nvPr/>
        </p:nvSpPr>
        <p:spPr>
          <a:xfrm>
            <a:off x="4223160" y="387324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Стрелка вниз 21"/>
          <p:cNvSpPr/>
          <p:nvPr/>
        </p:nvSpPr>
        <p:spPr>
          <a:xfrm rot="18801600">
            <a:off x="5900760" y="34563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611640" y="188640"/>
            <a:ext cx="81478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Неправильная тактика при руководс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южетно-отобразительной иг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детей ранне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91640" y="1830240"/>
            <a:ext cx="68403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одить игры-инсценировки с куклами по типу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ть с игрушками или предметами-заместителями молча, без комментари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тавлять самостоятельные игровые действия детей без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овать только сюжетные реалистические игрушки или только предметы-замест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носить новые игрушки, не давая образцов их игрово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2" descr=""/>
          <p:cNvPicPr/>
          <p:nvPr/>
        </p:nvPicPr>
        <p:blipFill>
          <a:blip r:embed="rId2"/>
          <a:stretch/>
        </p:blipFill>
        <p:spPr>
          <a:xfrm>
            <a:off x="24120" y="3861000"/>
            <a:ext cx="19792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3078000" y="2419560"/>
            <a:ext cx="2955600" cy="1872720"/>
          </a:xfrm>
          <a:prstGeom prst="ellipse">
            <a:avLst/>
          </a:prstGeom>
          <a:solidFill>
            <a:srgbClr val="c1e2e5"/>
          </a:solidFill>
          <a:ln w="28575">
            <a:solidFill>
              <a:srgbClr val="4f81bd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уководство иг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детей 3-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460440" y="78228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бозначать верб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инимаемую 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 роль партн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6024600" y="784800"/>
            <a:ext cx="2790360" cy="157500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спольз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арные взаим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ополни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и постепе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величивая чис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6292800" y="2530080"/>
            <a:ext cx="2663280" cy="157608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етям предостав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озможность действ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амостоятель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о жел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3151080" y="248400"/>
            <a:ext cx="288000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ыделять специф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вых действи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вое взаимодействие чер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активное исполь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вого диал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12200" y="4382280"/>
            <a:ext cx="275508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едостав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озмож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вободно включ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 игру, ме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ь по ходу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17"/>
          <p:cNvSpPr/>
          <p:nvPr/>
        </p:nvSpPr>
        <p:spPr>
          <a:xfrm rot="2266800">
            <a:off x="2948760" y="38415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Стрелка вниз 18"/>
          <p:cNvSpPr/>
          <p:nvPr/>
        </p:nvSpPr>
        <p:spPr>
          <a:xfrm rot="8238000">
            <a:off x="2858040" y="197424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Стрелка вниз 19"/>
          <p:cNvSpPr/>
          <p:nvPr/>
        </p:nvSpPr>
        <p:spPr>
          <a:xfrm rot="13475400">
            <a:off x="5600520" y="196200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Стрелка вниз 20"/>
          <p:cNvSpPr/>
          <p:nvPr/>
        </p:nvSpPr>
        <p:spPr>
          <a:xfrm>
            <a:off x="4262760" y="41745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Стрелка вниз 21"/>
          <p:cNvSpPr/>
          <p:nvPr/>
        </p:nvSpPr>
        <p:spPr>
          <a:xfrm rot="19128000">
            <a:off x="5471640" y="381348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Oval 12"/>
          <p:cNvSpPr/>
          <p:nvPr/>
        </p:nvSpPr>
        <p:spPr>
          <a:xfrm>
            <a:off x="3213720" y="507816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бозначать верб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инимаемую 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 роль партн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436680" y="438300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спольз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аконич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вую атрибути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ля пере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к другой 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167400" y="2605320"/>
            <a:ext cx="265068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Активно использ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мотивы сказоч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ю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26"/>
          <p:cNvSpPr/>
          <p:nvPr/>
        </p:nvSpPr>
        <p:spPr>
          <a:xfrm rot="5400000">
            <a:off x="2488320" y="3139200"/>
            <a:ext cx="660240" cy="73800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Стрелка вниз 27"/>
          <p:cNvSpPr/>
          <p:nvPr/>
        </p:nvSpPr>
        <p:spPr>
          <a:xfrm rot="16200000">
            <a:off x="5843520" y="3147480"/>
            <a:ext cx="660240" cy="7228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Стрелка вниз 28"/>
          <p:cNvSpPr/>
          <p:nvPr/>
        </p:nvSpPr>
        <p:spPr>
          <a:xfrm rot="10800000">
            <a:off x="4210920" y="1650960"/>
            <a:ext cx="660240" cy="87912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064520" y="70200"/>
            <a:ext cx="7704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Неправильная тактика при руководс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южетно-ролевой игрой детей 3-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344160" y="1124640"/>
            <a:ext cx="8424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ключаться в игру с детьми, не обозначив своей роли и не выяснив какую роль взял на себя реб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щаться к партнерам во время игры по имени, не используя ролевого обращения (например, «Катя, полечи меня», а не «Доктор, полечи мен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ь точному воспроизведению профессиональных операций (например, взвешивать, делать уко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вязывать предварительной план игры и требовать соблюдения этого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протяжении всей игры требовать от детей соблюдения, взятой на себя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зовывать детей для игры по единому сюжету. Управлять и контролировать действия участников так, чтобы все оказались занят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овать подробную ролевую атрибутику (например, полные костюм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граничиваться в игре только семейной тематикой или профессиональными ро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4"/>
          <p:cNvSpPr/>
          <p:nvPr/>
        </p:nvSpPr>
        <p:spPr>
          <a:xfrm>
            <a:off x="3078000" y="2419560"/>
            <a:ext cx="2955600" cy="1872720"/>
          </a:xfrm>
          <a:prstGeom prst="ellipse">
            <a:avLst/>
          </a:prstGeom>
          <a:solidFill>
            <a:srgbClr val="c1e2e5"/>
          </a:solidFill>
          <a:ln w="28575">
            <a:solidFill>
              <a:srgbClr val="4f81bd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уководство иг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детей 5-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6089040" y="1239480"/>
            <a:ext cx="2790360" cy="157500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частвов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едваритель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ериоде самостоя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гры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2"/>
          <p:cNvSpPr/>
          <p:nvPr/>
        </p:nvSpPr>
        <p:spPr>
          <a:xfrm>
            <a:off x="5795280" y="3956400"/>
            <a:ext cx="2663280" cy="157608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едостав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озмож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амим распреде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и и игр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о сюже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3151080" y="248400"/>
            <a:ext cx="288000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спользовать нов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форму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отекающую в чис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ечевом пла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3123720" y="4903920"/>
            <a:ext cx="2863800" cy="179424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Использовать мотив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сказочных сюжет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в игре-придумывани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подготовительно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периоде к самостоятель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игр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19"/>
          <p:cNvSpPr/>
          <p:nvPr/>
        </p:nvSpPr>
        <p:spPr>
          <a:xfrm rot="13475400">
            <a:off x="5600520" y="196200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Стрелка вниз 20"/>
          <p:cNvSpPr/>
          <p:nvPr/>
        </p:nvSpPr>
        <p:spPr>
          <a:xfrm>
            <a:off x="4262760" y="41745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Стрелка вниз 21"/>
          <p:cNvSpPr/>
          <p:nvPr/>
        </p:nvSpPr>
        <p:spPr>
          <a:xfrm rot="18798000">
            <a:off x="5544720" y="368100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Oval 12"/>
          <p:cNvSpPr/>
          <p:nvPr/>
        </p:nvSpPr>
        <p:spPr>
          <a:xfrm>
            <a:off x="423000" y="3989520"/>
            <a:ext cx="2737440" cy="150984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авать образ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оединения сказоч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 фантастиче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221760" y="117756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ействовать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авноправный партне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нося норма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пособы рас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28"/>
          <p:cNvSpPr/>
          <p:nvPr/>
        </p:nvSpPr>
        <p:spPr>
          <a:xfrm rot="10800000">
            <a:off x="4210920" y="1650960"/>
            <a:ext cx="660240" cy="87912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Стрелка вниз 25"/>
          <p:cNvSpPr/>
          <p:nvPr/>
        </p:nvSpPr>
        <p:spPr>
          <a:xfrm rot="8238000">
            <a:off x="2858040" y="197424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Стрелка вниз 29"/>
          <p:cNvSpPr/>
          <p:nvPr/>
        </p:nvSpPr>
        <p:spPr>
          <a:xfrm rot="2767200">
            <a:off x="2739600" y="359964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64520" y="70200"/>
            <a:ext cx="7704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Неправильная тактика при руководс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южетно-ролевой игрой детей 5-7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44160" y="1196640"/>
            <a:ext cx="8424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овать предметно-игровые действия в рамках привычных сю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целивать детей на детализацию ролевых действий,            а не на творческое развитие сюж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ранее задавать сюжет игры с определённой последовательностью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ребовать доводить сюжет «до конца», выполняя одну роль принятую в начал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имулировать игру только по реалистическим сюжетам, подбирая для игры материалы и атрибуты, наводящие детей на воспроизведение профессиональных функций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мешиваться в отношения между сверстниками, назначать детей на главн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  <Words>818</Words>
  <Paragraphs>14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8:54:01Z</dcterms:created>
  <dc:creator>Людмила Архипова</dc:creator>
  <dc:description/>
  <dc:language>en-US</dc:language>
  <cp:lastModifiedBy>Александр</cp:lastModifiedBy>
  <dcterms:modified xsi:type="dcterms:W3CDTF">2017-12-13T15:35:09Z</dcterms:modified>
  <cp:revision>137</cp:revision>
  <dc:subject/>
  <dc:title>«Развитие творческих способностей при включении игры в изодеятельность  дошкольников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